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79D-F4A3-4AC1-A4F4-DBF9BBA7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ABB-B1C5-455D-BF91-32B33CE8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6C9-7DBC-40C0-A705-0493EC06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276-0FFB-4BCA-B5E7-53CA42CF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8A62-F3FC-4E26-9ED5-34474215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EE54-84B2-4913-B7D2-A6E94388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D95E-EEB0-4D24-8C60-94AC3E91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A56D-8F3E-4BBB-9F5B-8E2DA78A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E5C5-FC0D-433E-93E3-9081A50F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AD47-9B22-4AB7-8452-6BDBB82F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5DBF-CE10-416C-AD1A-6BC78695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652-56EC-4C09-90EF-C1442546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5DF5-FBD9-46A4-8E92-FA39667E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9446-37AD-4A0F-A807-82B66375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FE58-EAE0-4EA8-B110-8C18A0F9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D661-0B26-440C-AA96-4457C791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0788-4A62-4233-A265-C138CD4C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C2D4C-EE02-4691-A446-8703168F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7758-C293-4611-B5BB-FAB5A215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F2EB-BB19-4572-B5BE-949B69E3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7EF19-13D2-41C9-9E50-F302BE82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F844-89CC-4A93-83DB-663475A5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8AB-317C-4527-863C-141A5E2D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4E88D-9DDB-43E0-8856-EF83F716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A614-93D5-42B3-9E10-0CD04BD2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28A4-762C-4077-8FD8-58B00C8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97440-D9A1-49DE-AAC7-EE542DEF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6414-20D0-4A01-8025-B8A9E3CE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B52F-6D39-47E1-A5B9-119018DE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A603-E1C9-4B55-8684-33E7C7BC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7554F-55C3-4791-8F5D-CE9B870A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CC70-3561-4D9B-8E7C-04DF5DFA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2AA93-71D8-4F63-AAF2-319292BE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139-B24E-449F-9A3F-D7499FE1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02997-846F-49D0-9421-22F7A313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798BA-0FA5-46AF-ABD0-480AC637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DDEB-2D54-48E6-B815-DF858D69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AB952-55C6-4BBF-9BF2-C9DF7A08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9CC4-12FF-44EF-96A1-24F71B6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65DC9-90FE-4F79-93E0-ED74A18C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27F7C-B0B4-4A88-973D-5C3D50D7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AC88A-0367-406D-A5DE-FDFE6D4E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729B-6AB8-4743-87BE-F78A9109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19A67-D66A-4566-AECA-42A8CC41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470-84B5-4B64-BAC5-65E3BDF4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4B52C-A9A2-4941-A09C-5A6B3807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6AB6-EA20-45F3-AE44-D17077EF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233B5-A7F4-4C33-82E1-FE272710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EAD3-794F-46FF-BE86-75B4C8F5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708BD-C899-4770-BCFD-B3886900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C6B3-E589-438F-8E1F-9BF0C87D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1AFF4-8167-4861-BDD0-CBFD3A40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567C0-EDA3-4C6A-8106-70A4C99E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322F-49DF-43D1-8D6F-27B6D564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5D31-D375-410A-A271-53DA1B43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C04-4138-4381-9B82-0CD82CDB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32B8C-BA4C-49C8-858A-D4000654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E7E-836E-456C-9DC4-EA5AEA8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FD5-CD73-41B0-9F86-4D2CB5BA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CBD-C32F-4F98-A3D8-6E452C8B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F156-FCD1-4EBA-BF38-13BE51F953AA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593E-790B-41CD-B2D5-44DCECFD079E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138B-1743-433E-A8CF-D2A68980FA9A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105520"/>
            <a:ext cx="8469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709B-6EF6-496B-BD8F-65C0D546F94C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6F61-7E99-4AAD-942A-B333365C0B4D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 Schoolbook"/>
              </a:rPr>
              <a:t>Cellular Respiration</a:t>
            </a:r>
            <a:endParaRPr b="0" lang="en-US" sz="8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06520" y="44953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Century Schoolbook"/>
              </a:rPr>
              <a:t>Objective 18: Analyze photosynthesis and cellular respiration in terms of how energy is stored, released, and transferred within and between these system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6200640" y="0"/>
            <a:ext cx="2943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513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d3cc"/>
                </a:solidFill>
                <a:latin typeface="Century Schoolbook"/>
              </a:rPr>
              <a:t>Aerobic Respiratio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entury Schoolbook"/>
              </a:rPr>
              <a:t>Step 3: Electron Transport Phosphorylation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in mitochondria; uses the high energy electrons captured in the Krebs Cycle (in NADH and 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) to form ATP and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Every time 2 high-energy electrons go down the electron transport chain, their energy is used to transport H</a:t>
            </a:r>
            <a:r>
              <a:rPr b="0" lang="en-US" sz="3200" spc="-1" strike="noStrike" baseline="30000">
                <a:solidFill>
                  <a:srgbClr val="262626"/>
                </a:solidFill>
                <a:latin typeface="Century Schoolbook"/>
              </a:rPr>
              <a:t>+</a:t>
            </a: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 ions across the inner membrane of a mitochondrian</a:t>
            </a: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d6d3cc"/>
                </a:solidFill>
                <a:uFillTx/>
                <a:latin typeface="Century Schoolbook"/>
              </a:rPr>
              <a:t>Step 3: Electron Transport Phosphorylation:</a:t>
            </a:r>
            <a:br>
              <a:rPr sz="2900"/>
            </a:br>
            <a:r>
              <a:rPr b="1" lang="en-US" sz="2900" spc="-1" strike="noStrike">
                <a:solidFill>
                  <a:srgbClr val="d6d3cc"/>
                </a:solidFill>
                <a:latin typeface="Century Schoolbook"/>
              </a:rPr>
              <a:t>                            </a:t>
            </a:r>
            <a:r>
              <a:rPr b="1" lang="en-US" sz="2900" spc="-1" strike="noStrike" u="sng">
                <a:solidFill>
                  <a:srgbClr val="d6d3cc"/>
                </a:solidFill>
                <a:uFillTx/>
                <a:latin typeface="Century Schoolbook"/>
              </a:rPr>
              <a:t>(continued)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Schoolbook"/>
              </a:rPr>
              <a:t>H</a:t>
            </a:r>
            <a:r>
              <a:rPr b="0" lang="en-US" sz="3000" spc="-1" strike="noStrike" baseline="30000">
                <a:solidFill>
                  <a:srgbClr val="262626"/>
                </a:solidFill>
                <a:latin typeface="Century Schoolbook"/>
              </a:rPr>
              <a:t>+</a:t>
            </a:r>
            <a:r>
              <a:rPr b="0" lang="en-US" sz="3000" spc="-1" strike="noStrike">
                <a:solidFill>
                  <a:srgbClr val="262626"/>
                </a:solidFill>
                <a:latin typeface="Century Schoolbook"/>
              </a:rPr>
              <a:t> ions build up in the inner membrane space setting up a concentration and an electrical gradient.  As H</a:t>
            </a:r>
            <a:r>
              <a:rPr b="0" lang="en-US" sz="3000" spc="-1" strike="noStrike" baseline="30000">
                <a:solidFill>
                  <a:srgbClr val="262626"/>
                </a:solidFill>
                <a:latin typeface="Century Schoolbook"/>
              </a:rPr>
              <a:t>+</a:t>
            </a:r>
            <a:r>
              <a:rPr b="0" lang="en-US" sz="3000" spc="-1" strike="noStrike">
                <a:solidFill>
                  <a:srgbClr val="262626"/>
                </a:solidFill>
                <a:latin typeface="Century Schoolbook"/>
              </a:rPr>
              <a:t> ions rush back through the membrane, enough energy is created to cause ADP to combine with P to form ATP</a:t>
            </a:r>
            <a:endParaRPr b="0" lang="en-US" sz="30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Schoolbook"/>
              </a:rPr>
              <a:t>This step produces 32 ATP for a net yield of 36</a:t>
            </a:r>
            <a:endParaRPr b="0" lang="en-US" sz="30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Schoolbook"/>
              </a:rPr>
              <a:t>Water is also produced as a product</a:t>
            </a:r>
            <a:endParaRPr b="0" lang="en-US" sz="3000" spc="-1" strike="noStrike">
              <a:solidFill>
                <a:srgbClr val="26262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31680" y="19080"/>
            <a:ext cx="89074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7440" y="231840"/>
            <a:ext cx="7118280" cy="3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erobic Respiration Flowchar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186228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5778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18772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379728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54072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7010280" y="2389320"/>
            <a:ext cx="1752840" cy="2334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5778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luco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xy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reb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ctr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7162920" y="2514600"/>
            <a:ext cx="13651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3122640" y="18129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d3cc"/>
                </a:solidFill>
                <a:latin typeface="Century Schoolbook"/>
              </a:rPr>
              <a:t>Aerobic Respiration Summa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8" name="Picture 4" descr="0703"/>
          <p:cNvPicPr/>
          <p:nvPr/>
        </p:nvPicPr>
        <p:blipFill>
          <a:blip r:embed="rId1"/>
          <a:stretch/>
        </p:blipFill>
        <p:spPr>
          <a:xfrm>
            <a:off x="990720" y="762120"/>
            <a:ext cx="678168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Anaerobic Respi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ccurs in the absence of oxyg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ields only 2 AT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appens in cytoplas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first step is glycolysis.  The pyruvate is converted to ethanol or lactic aci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1" name="Picture 4" descr="0710"/>
          <p:cNvPicPr/>
          <p:nvPr/>
        </p:nvPicPr>
        <p:blipFill>
          <a:blip r:embed="rId5"/>
          <a:stretch/>
        </p:blipFill>
        <p:spPr>
          <a:xfrm>
            <a:off x="2666880" y="3909960"/>
            <a:ext cx="28195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Alcoholic Ferment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in yeas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ep 1: Glycolysi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Glucose is converted to pyruvate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Net 2 ATP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ep 2: Ethanol Form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Pyruvate is converted to ethanol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</p:txBody>
      </p:sp>
      <p:pic>
        <p:nvPicPr>
          <p:cNvPr id="274" name="Picture 4" descr="0710"/>
          <p:cNvPicPr/>
          <p:nvPr/>
        </p:nvPicPr>
        <p:blipFill>
          <a:blip r:embed="rId1"/>
          <a:stretch/>
        </p:blipFill>
        <p:spPr>
          <a:xfrm>
            <a:off x="3730680" y="1447920"/>
            <a:ext cx="50054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Lactic Acid Ferment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ccurs in bacteria and animal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ep 1: Glycolysi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Glucose is converted to pyruvate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Net 2 ATP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ep 2: Lactate form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Pyruvate is converted to lactic acid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3179880" y="1600200"/>
          <a:ext cx="5964120" cy="4470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78" name="Object 4" descr="07COa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9880" y="1600200"/>
                    <a:ext cx="59641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5959"/>
                </a:solidFill>
                <a:latin typeface="Century Schoolbook"/>
              </a:rPr>
              <a:t>Cellular Respi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320" y="11426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within </a:t>
            </a:r>
            <a:r>
              <a:rPr b="0" lang="en-US" sz="1800" spc="-1" strike="noStrike">
                <a:solidFill>
                  <a:srgbClr val="c00000"/>
                </a:solidFill>
                <a:latin typeface="Century Schoolbook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living cel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emical bonds are broken in glucose releasing energy (ATP) to be used by cell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erobic Respiration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C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H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12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O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 + 6 O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 6 CO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 + 6 H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O + energy</a:t>
            </a: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oxygen needed</a:t>
            </a: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Yields 36 ATP</a:t>
            </a: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Starts in cytoplasm and ends in mitochondria</a:t>
            </a: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Photosynthesis to Cell Resp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4591080" cy="48736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57200" y="396252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oducts of photosynthesis are the reactants of cellular respiration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Mitochondri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1" name="Picture 6" descr="mitochondria"/>
          <p:cNvPicPr/>
          <p:nvPr/>
        </p:nvPicPr>
        <p:blipFill>
          <a:blip r:embed="rId1"/>
          <a:stretch/>
        </p:blipFill>
        <p:spPr>
          <a:xfrm>
            <a:off x="2265480" y="2055960"/>
            <a:ext cx="38098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ypes of Cellular Respi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erobi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“</a:t>
            </a: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With oxygen”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Uses oxygen to produce ATP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Produces more ATP than anaerobic respiration 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entury Schoolbook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erobi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“</a:t>
            </a: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Without oxygen”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Produces ATP in the absence of oxygen 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Not as efficient as aerobic respiration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Century Schoolbook"/>
              </a:rPr>
              <a:t>Alcoholic fermentation </a:t>
            </a:r>
            <a:r>
              <a:rPr b="0" lang="en-US" sz="16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 yeast converts glucose into CO2 and ethanol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entury Schoolbook"/>
              </a:rPr>
              <a:t>Lactic acid fermentation</a:t>
            </a:r>
            <a:r>
              <a:rPr b="0" lang="en-US" sz="16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 occurs in muscle cells when oxygen is not available and produced CO2 and lactic acid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7440" y="231840"/>
            <a:ext cx="7118280" cy="3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erobic Respiration Flowchar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186228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5778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18772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379728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54072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7010280" y="2389320"/>
            <a:ext cx="1752840" cy="2334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5778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luco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xy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reb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ctr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7162920" y="2514600"/>
            <a:ext cx="13651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122640" y="18129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Aerobic Respi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Century Schoolbook"/>
              </a:rPr>
              <a:t>Step 1: Glycolysi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Occurs in the cytoplasm</a:t>
            </a: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Glucose (C</a:t>
            </a:r>
            <a:r>
              <a:rPr b="0" lang="en-US" sz="3200" spc="-1" strike="noStrike" baseline="-25000">
                <a:solidFill>
                  <a:srgbClr val="262626"/>
                </a:solidFill>
                <a:latin typeface="Century Schoolbook"/>
              </a:rPr>
              <a:t>6</a:t>
            </a: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H</a:t>
            </a:r>
            <a:r>
              <a:rPr b="0" lang="en-US" sz="3200" spc="-1" strike="noStrike" baseline="-25000">
                <a:solidFill>
                  <a:srgbClr val="262626"/>
                </a:solidFill>
                <a:latin typeface="Century Schoolbook"/>
              </a:rPr>
              <a:t>12</a:t>
            </a: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O</a:t>
            </a:r>
            <a:r>
              <a:rPr b="0" lang="en-US" sz="3200" spc="-1" strike="noStrike" baseline="-25000">
                <a:solidFill>
                  <a:srgbClr val="262626"/>
                </a:solidFill>
                <a:latin typeface="Century Schoolbook"/>
              </a:rPr>
              <a:t>6</a:t>
            </a: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) is split into two molecules of pyruvic acid</a:t>
            </a: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Yields 2 ATP molecules and 2 NADH (another energy molecule)</a:t>
            </a: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2127240" y="406440"/>
            <a:ext cx="488952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Aerobic Respi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Step 2: Krebs Cyc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95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in matrix of the mitochondria; pyruvic acid is converted to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95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2 NADH (energy molecules), 2ATP, and 2 FADH</a:t>
            </a:r>
            <a:r>
              <a:rPr b="0" lang="en-US" sz="3200" spc="-1" strike="noStrike" baseline="-25000">
                <a:solidFill>
                  <a:srgbClr val="262626"/>
                </a:solidFill>
                <a:latin typeface="Century Schoolbook"/>
              </a:rPr>
              <a:t>2 </a:t>
            </a: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(energy molecules) are also formed</a:t>
            </a: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9:04:12Z</dcterms:created>
  <dc:creator>Zebulon Holsopple</dc:creator>
  <dc:description/>
  <cp:keywords/>
  <dc:language>en-US</dc:language>
  <cp:lastModifiedBy>Geneva Jost</cp:lastModifiedBy>
  <dcterms:modified xsi:type="dcterms:W3CDTF">2017-05-08T11:16:37Z</dcterms:modified>
  <cp:revision>18</cp:revision>
  <dc:subject>Biology Honors</dc:subject>
  <dc:title>4.2.1_Notes_CellularRespiration</dc:title>
</cp:coreProperties>
</file>